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58400" cy="77724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570-FB21-424B-9EDC-DAFEC2C2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29076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1B2-A516-4A64-95F0-829DADF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5FA-AF84-4F8A-BA77-5A821CF3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13148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13148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29076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329076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329076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C07-B722-4840-B9DB-D203FDE2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1314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492-7FC0-401A-94C8-142AAAA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8F9-CD63-497A-84E2-A2FACA5D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93F-F037-45A8-B25F-9A084D8A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0D4-AD7B-404C-9752-DA0A55F3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2314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D35-6A93-4146-876D-2042C23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821-CF4F-45D0-AB2F-91908B1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329076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EA8-F91A-4D42-8325-4FA40E6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0052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13148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29076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622-52A8-47DF-85D1-D9F4B80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13148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4120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165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612-EA40-44C3-84FA-C4DA032A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838080" y="981000"/>
            <a:ext cx="8763120" cy="0"/>
          </a:xfrm>
          <a:prstGeom prst="line">
            <a:avLst/>
          </a:prstGeom>
          <a:ln w="1015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19"/>
          <p:cNvGraphicFramePr/>
          <p:nvPr/>
        </p:nvGraphicFramePr>
        <p:xfrm>
          <a:off x="9593280" y="7248600"/>
          <a:ext cx="4413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93280" y="7248600"/>
                    <a:ext cx="441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ellular Metabolic Network Model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3096720"/>
            <a:ext cx="7628040" cy="46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toichiometric coefficients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termines number of product molecules produced per molecule of substrate consum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known from biochemistry litera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action rates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called reaction velocity or flu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 be determined computational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etabolic flux balance analy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sume no intracellular metabolite accumu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lculation of unknown fluxes from available measur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786200" y="1546200"/>
                <a:ext cx="279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P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7" name="Picture 5" descr="pathway-1b"/>
          <p:cNvPicPr/>
          <p:nvPr/>
        </p:nvPicPr>
        <p:blipFill>
          <a:blip r:embed="rId1"/>
          <a:stretch/>
        </p:blipFill>
        <p:spPr>
          <a:xfrm>
            <a:off x="1539720" y="1160640"/>
            <a:ext cx="25765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6676920" y="4633920"/>
            <a:ext cx="3747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027920" y="4208400"/>
            <a:ext cx="338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verdetermined Flux Balance Model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39360" cy="610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ssume measurements of glucose in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acetaldehyde/pyruvate ef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nd the intracellular 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re 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overdetermined linear algebraic equation system can be solved in Matl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820880" y="2647800"/>
                <a:ext cx="568476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1"/>
          <p:cNvSpPr/>
          <p:nvPr/>
        </p:nvSpPr>
        <p:spPr>
          <a:xfrm>
            <a:off x="3908520" y="2655720"/>
            <a:ext cx="312480" cy="285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5586480" y="4208400"/>
            <a:ext cx="36360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verdetermined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2280" y="1131480"/>
            <a:ext cx="4341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in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 flux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   -1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-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0     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     0     2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6520" y="1131840"/>
            <a:ext cx="98100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ntent Placeholder 8"/>
          <p:cNvSpPr/>
          <p:nvPr/>
        </p:nvSpPr>
        <p:spPr>
          <a:xfrm>
            <a:off x="6462720" y="1158840"/>
            <a:ext cx="331956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x2 = linsolve(A2,b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4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14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57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4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Underdetermined System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131840"/>
            <a:ext cx="7729560" cy="615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o many unknow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d “smallest”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at satisfies equ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inimize least-squares error meas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inimization probl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vert constrained problem into unconstrained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tilize method of Lagrange multipliers (see tex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must be nonsing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s called the right inver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951200" y="2960640"/>
                <a:ext cx="29462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</m:lim>
                          </m:limLow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b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 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=</m:t>
                          </m:r>
                          <m:r>
                            <m:t xml:space="preserve">b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6889680" y="3782880"/>
            <a:ext cx="26208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062760" y="4871880"/>
            <a:ext cx="2998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5448240" y="2367000"/>
            <a:ext cx="401760" cy="266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Underdetermined Flux Balance Model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39360" cy="610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ssume only measurement of glucose in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is 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underdetermined linear algebraic equation system can be solved in Matl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670040" y="2185920"/>
                <a:ext cx="5637240" cy="30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Undetermined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2280" y="1131480"/>
            <a:ext cx="4341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in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 flux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    0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   -1     0     0     0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-1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0     1    -1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 0    -1     0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     0     2     0    -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06520" y="1131840"/>
            <a:ext cx="104292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ntent Placeholder 8"/>
          <p:cNvSpPr/>
          <p:nvPr/>
        </p:nvSpPr>
        <p:spPr>
          <a:xfrm>
            <a:off x="6202440" y="1146240"/>
            <a:ext cx="3254400" cy="50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x3 = linsolve(A3,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east Energy Metabolism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72960" y="1530360"/>
            <a:ext cx="9188280" cy="5432400"/>
            <a:chOff x="372960" y="1530360"/>
            <a:chExt cx="9188280" cy="5432400"/>
          </a:xfrm>
        </p:grpSpPr>
        <p:sp>
          <p:nvSpPr>
            <p:cNvPr id="50" name="Oval 4"/>
            <p:cNvSpPr/>
            <p:nvPr/>
          </p:nvSpPr>
          <p:spPr>
            <a:xfrm>
              <a:off x="372960" y="2570040"/>
              <a:ext cx="9188280" cy="4392720"/>
            </a:xfrm>
            <a:prstGeom prst="ellipse">
              <a:avLst/>
            </a:prstGeom>
            <a:solidFill>
              <a:srgbClr val="06f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781560" y="2260440"/>
              <a:ext cx="190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extracellula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811080" y="3776760"/>
              <a:ext cx="1870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intracellula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829080" y="525780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glyc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3843720" y="490860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8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4516200" y="4908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742480" y="534528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G3P/DH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3709080" y="38736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2229840" y="4780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449360" y="479124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8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686040" y="4222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3191400" y="2116080"/>
              <a:ext cx="204480" cy="1527120"/>
            </a:xfrm>
            <a:prstGeom prst="downArrow">
              <a:avLst>
                <a:gd name="adj1" fmla="val 50000"/>
                <a:gd name="adj2" fmla="val 18670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>
              <a:off x="3327840" y="4040280"/>
              <a:ext cx="341280" cy="463320"/>
            </a:xfrm>
            <a:custGeom>
              <a:avLst/>
              <a:gdLst>
                <a:gd name="textAreaLeft" fmla="*/ 45720 w 341280"/>
                <a:gd name="textAreaRight" fmla="*/ 295560 w 341280"/>
                <a:gd name="textAreaTop" fmla="*/ 81000 h 463320"/>
                <a:gd name="textAreaBottom" fmla="*/ 3358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"/>
            <p:cNvSpPr/>
            <p:nvPr/>
          </p:nvSpPr>
          <p:spPr>
            <a:xfrm>
              <a:off x="3191400" y="3916440"/>
              <a:ext cx="204480" cy="1465200"/>
            </a:xfrm>
            <a:prstGeom prst="downArrow">
              <a:avLst>
                <a:gd name="adj1" fmla="val 50000"/>
                <a:gd name="adj2" fmla="val 17913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18"/>
            <p:cNvSpPr/>
            <p:nvPr/>
          </p:nvSpPr>
          <p:spPr>
            <a:xfrm>
              <a:off x="1760400" y="5405400"/>
              <a:ext cx="820800" cy="155520"/>
            </a:xfrm>
            <a:prstGeom prst="leftArrow">
              <a:avLst>
                <a:gd name="adj1" fmla="val 50000"/>
                <a:gd name="adj2" fmla="val 13194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flipH="1">
              <a:off x="1828800" y="5219640"/>
              <a:ext cx="774720" cy="203400"/>
            </a:xfrm>
            <a:custGeom>
              <a:avLst/>
              <a:gdLst>
                <a:gd name="textAreaLeft" fmla="*/ 135360 w 774720"/>
                <a:gd name="textAreaRight" fmla="*/ 561600 w 77472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7852320" y="360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ethan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1"/>
            <p:cNvSpPr/>
            <p:nvPr/>
          </p:nvSpPr>
          <p:spPr>
            <a:xfrm>
              <a:off x="5037840" y="1530360"/>
              <a:ext cx="151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etaldehyde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yruv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5369400" y="534348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,3-B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23"/>
            <p:cNvSpPr/>
            <p:nvPr/>
          </p:nvSpPr>
          <p:spPr>
            <a:xfrm>
              <a:off x="6146280" y="478476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4"/>
            <p:cNvSpPr/>
            <p:nvPr/>
          </p:nvSpPr>
          <p:spPr>
            <a:xfrm>
              <a:off x="7114680" y="317196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8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5"/>
            <p:cNvSpPr/>
            <p:nvPr/>
          </p:nvSpPr>
          <p:spPr>
            <a:xfrm>
              <a:off x="6288120" y="31719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6"/>
            <p:cNvSpPr/>
            <p:nvPr/>
          </p:nvSpPr>
          <p:spPr>
            <a:xfrm>
              <a:off x="6154560" y="435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27"/>
            <p:cNvSpPr/>
            <p:nvPr/>
          </p:nvSpPr>
          <p:spPr>
            <a:xfrm flipH="1" flipV="1">
              <a:off x="5711760" y="3916440"/>
              <a:ext cx="204840" cy="1465200"/>
            </a:xfrm>
            <a:prstGeom prst="downArrow">
              <a:avLst>
                <a:gd name="adj1" fmla="val 50000"/>
                <a:gd name="adj2" fmla="val 17882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8"/>
            <p:cNvSpPr/>
            <p:nvPr/>
          </p:nvSpPr>
          <p:spPr>
            <a:xfrm>
              <a:off x="5082480" y="3398760"/>
              <a:ext cx="151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cetaldehyde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yruv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30"/>
            <p:cNvSpPr/>
            <p:nvPr/>
          </p:nvSpPr>
          <p:spPr>
            <a:xfrm flipH="1">
              <a:off x="6530400" y="3666960"/>
              <a:ext cx="1293840" cy="155880"/>
            </a:xfrm>
            <a:prstGeom prst="leftArrow">
              <a:avLst>
                <a:gd name="adj1" fmla="val 50000"/>
                <a:gd name="adj2" fmla="val 2075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31"/>
            <p:cNvSpPr/>
            <p:nvPr/>
          </p:nvSpPr>
          <p:spPr>
            <a:xfrm>
              <a:off x="6666840" y="3481560"/>
              <a:ext cx="774720" cy="203040"/>
            </a:xfrm>
            <a:custGeom>
              <a:avLst/>
              <a:gdLst>
                <a:gd name="textAreaLeft" fmla="*/ 135360 w 774720"/>
                <a:gd name="textAreaRight" fmla="*/ 561600 w 774720"/>
                <a:gd name="textAreaTop" fmla="*/ 27000 h 203040"/>
                <a:gd name="textAreaBottom" fmla="*/ 17604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2"/>
            <p:cNvSpPr/>
            <p:nvPr/>
          </p:nvSpPr>
          <p:spPr>
            <a:xfrm flipH="1">
              <a:off x="4008960" y="5405400"/>
              <a:ext cx="1403280" cy="146160"/>
            </a:xfrm>
            <a:prstGeom prst="leftArrow">
              <a:avLst>
                <a:gd name="adj1" fmla="val 50000"/>
                <a:gd name="adj2" fmla="val 24002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33"/>
            <p:cNvSpPr/>
            <p:nvPr/>
          </p:nvSpPr>
          <p:spPr>
            <a:xfrm>
              <a:off x="4213800" y="5219640"/>
              <a:ext cx="774720" cy="203400"/>
            </a:xfrm>
            <a:custGeom>
              <a:avLst/>
              <a:gdLst>
                <a:gd name="textAreaLeft" fmla="*/ 135360 w 774720"/>
                <a:gd name="textAreaRight" fmla="*/ 561600 w 77472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2879280" y="18050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6"/>
            <p:cNvSpPr/>
            <p:nvPr/>
          </p:nvSpPr>
          <p:spPr>
            <a:xfrm>
              <a:off x="2841120" y="354168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7"/>
            <p:cNvSpPr/>
            <p:nvPr/>
          </p:nvSpPr>
          <p:spPr>
            <a:xfrm>
              <a:off x="4360680" y="546732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38"/>
            <p:cNvSpPr/>
            <p:nvPr/>
          </p:nvSpPr>
          <p:spPr>
            <a:xfrm>
              <a:off x="2111760" y="546732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39"/>
            <p:cNvSpPr/>
            <p:nvPr/>
          </p:nvSpPr>
          <p:spPr>
            <a:xfrm>
              <a:off x="2793240" y="42879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0"/>
            <p:cNvSpPr/>
            <p:nvPr/>
          </p:nvSpPr>
          <p:spPr>
            <a:xfrm>
              <a:off x="7153200" y="44751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1"/>
            <p:cNvSpPr/>
            <p:nvPr/>
          </p:nvSpPr>
          <p:spPr>
            <a:xfrm>
              <a:off x="5314680" y="44751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2"/>
            <p:cNvSpPr/>
            <p:nvPr/>
          </p:nvSpPr>
          <p:spPr>
            <a:xfrm>
              <a:off x="6881760" y="372888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3"/>
            <p:cNvSpPr/>
            <p:nvPr/>
          </p:nvSpPr>
          <p:spPr>
            <a:xfrm>
              <a:off x="2790000" y="279864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5"/>
            <p:cNvSpPr/>
            <p:nvPr/>
          </p:nvSpPr>
          <p:spPr>
            <a:xfrm>
              <a:off x="5938920" y="2604960"/>
              <a:ext cx="432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46"/>
            <p:cNvSpPr/>
            <p:nvPr/>
          </p:nvSpPr>
          <p:spPr>
            <a:xfrm flipV="1">
              <a:off x="5848920" y="4413240"/>
              <a:ext cx="339840" cy="558720"/>
            </a:xfrm>
            <a:custGeom>
              <a:avLst/>
              <a:gdLst>
                <a:gd name="textAreaLeft" fmla="*/ 45360 w 339840"/>
                <a:gd name="textAreaRight" fmla="*/ 294480 w 339840"/>
                <a:gd name="textAreaTop" fmla="*/ 97560 h 558720"/>
                <a:gd name="textAreaBottom" fmla="*/ 40500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7"/>
            <p:cNvSpPr/>
            <p:nvPr/>
          </p:nvSpPr>
          <p:spPr>
            <a:xfrm flipH="1">
              <a:off x="6735240" y="4475160"/>
              <a:ext cx="339840" cy="528480"/>
            </a:xfrm>
            <a:custGeom>
              <a:avLst/>
              <a:gdLst>
                <a:gd name="textAreaLeft" fmla="*/ 45360 w 339840"/>
                <a:gd name="textAreaRight" fmla="*/ 294480 w 339840"/>
                <a:gd name="textAreaTop" fmla="*/ 92520 h 528480"/>
                <a:gd name="textAreaBottom" fmla="*/ 383400 h 5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AutoShape 27"/>
          <p:cNvSpPr/>
          <p:nvPr/>
        </p:nvSpPr>
        <p:spPr>
          <a:xfrm flipH="1" flipV="1">
            <a:off x="5677920" y="2158200"/>
            <a:ext cx="199800" cy="1327320"/>
          </a:xfrm>
          <a:prstGeom prst="downArrow">
            <a:avLst>
              <a:gd name="adj1" fmla="val 50000"/>
              <a:gd name="adj2" fmla="val 1781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76640" y="7093080"/>
            <a:ext cx="5924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lf &amp; Heinrich, Biochemical Journal, 345, 321-334,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teady-State Mass Balance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9520" y="1417680"/>
          <a:ext cx="9666360" cy="3462120"/>
        </p:xfrm>
        <a:graphic>
          <a:graphicData uri="http://schemas.openxmlformats.org/drawingml/2006/table">
            <a:tbl>
              <a:tblPr/>
              <a:tblGrid>
                <a:gridCol w="2811600"/>
                <a:gridCol w="6854760"/>
              </a:tblGrid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rane transport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se (extracellular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luc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1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se + 2AT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G3P/DHP + A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2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3P/DHP+NAD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3-BPG + NA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3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-BPG+AD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cetaldehyde/Pyruvate + 2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4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aldehyde/Pyruvate+NAD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thanol + NAD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5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on 6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3P/DHP+NADH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lycerol + NAD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bd8"/>
                    </a:solidFill>
                  </a:tcPr>
                </a:tc>
              </a:tr>
              <a:tr h="450720"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brane transport (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  <a:tc>
                  <a:txBody>
                    <a:bodyPr lIns="100440" rIns="100440" tIns="51840" bIns="51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aldehyde/Pyruvat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cetaldehyde/Pyruvate (extracell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7e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393840" y="5413320"/>
                <a:ext cx="935676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Glucose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3P/DHP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PG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cetaldeyde/Pyruvate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NADH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TP:  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Flux Balance Model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39360" cy="610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ssume measurements of glucose in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nd acetaldehyde/pyruvate efflux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re 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s square linear algebraic equation system can be solved in Matla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1574640" y="2405160"/>
                <a:ext cx="5829480" cy="32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lab Linear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320" y="1131840"/>
            <a:ext cx="7729560" cy="62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tlab provide three different ways to solve linear algebraic systems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Times New Roman"/>
              </a:rPr>
              <a:t>x = inv(A)*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nly applicable to squar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Times New Roman"/>
              </a:rPr>
              <a:t>x = A\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plicable to square and non-squar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vides least-squares solutions if system is non-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x = linsolve(A,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x = A\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vides additional solution options not discussed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quare System Solu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2280" y="1131480"/>
            <a:ext cx="4341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in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 and efflu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 flux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   -1     0     0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-1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0     1    -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     1     0    -1     0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2     0     2     0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19760" y="1131840"/>
            <a:ext cx="1030320" cy="60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ntent Placeholder 8"/>
          <p:cNvSpPr/>
          <p:nvPr/>
        </p:nvSpPr>
        <p:spPr>
          <a:xfrm>
            <a:off x="6575400" y="1133640"/>
            <a:ext cx="318312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x1 = linsolve(A1,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Generalized Linear System Solution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131840"/>
            <a:ext cx="7834320" cy="606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near algebraic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quare system: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 number of equations and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solution exists if de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non-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verdetermined system: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quations than unknow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general solution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nderdetermined system: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unknowns than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number of solution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021040" y="1666800"/>
                <a:ext cx="3446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verdetermined Systems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84080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enough unknowns to satisfy all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closest”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lem in parameter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nimize least-squares error meas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nimiz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trix differentiation formul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1979640" y="4630680"/>
                <a:ext cx="40687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720800" y="3241800"/>
                <a:ext cx="3800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372960" y="6224760"/>
                <a:ext cx="946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dx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f>
                            <m:num>
                              <m:r>
                                <m:t xml:space="preserve">dΦ</m:t>
                              </m:r>
                            </m:num>
                            <m:den>
                              <m:r>
                                <m:t xml:space="preserve">dx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231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Overdetermined Systems cont. 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131840"/>
            <a:ext cx="8164800" cy="606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rmal equations:  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must be nonsing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728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s called the left inverse matri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411ab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1030320" y="4132440"/>
                <a:ext cx="8059680" cy="28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5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9</m:t>
                                          </m:r>
                                        </m:e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e>
                                          <m:r>
                                            <m:t xml:space="preserve">6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9</m:t>
                                        </m:r>
                                      </m:e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e>
                                        <m:r>
                                          <m:t xml:space="preserve">6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10:02:00Z</dcterms:created>
  <dc:creator>mls</dc:creator>
  <dc:description/>
  <dc:language>en-US</dc:language>
  <cp:lastModifiedBy>Mike</cp:lastModifiedBy>
  <cp:lastPrinted>2002-11-02T12:58:18Z</cp:lastPrinted>
  <dcterms:modified xsi:type="dcterms:W3CDTF">2013-06-20T21:12:58Z</dcterms:modified>
  <cp:revision>560</cp:revision>
  <dc:subject/>
  <dc:title>Engineering Metabolism in Plant Cell Tissue Cultures for Optimizing Production of the Anti-Cancer Agent Taxol</dc:title>
</cp:coreProperties>
</file>